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1C2D-5B94-4E35-A256-F621594F2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7354-E94C-439B-A222-E2714AD1D02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DAAB-2E43-4942-A8A9-A96768E4FC5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2138-B82B-499C-82A2-C8AE0557CD4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98BD-A31F-4F8A-8E24-DE53B78A54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2B2A-A116-44C0-A5A3-98B4A5F20BC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BE7A-6F01-471C-A84C-6933BFE53F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9984-CD4B-4631-8752-902308D535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602F-B0D5-40D9-B6C5-70198BE564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6CDB-87AC-4C53-B744-040EA35FC21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18C2-86DB-4025-BD7C-FF64018551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A3DE-1CE8-4189-9844-2EB8AA49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F1D7-DC29-4B19-8256-4CBF13DA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76D81F-55AE-40AA-8051-60D183C6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F6EBFC-D872-4FB7-8505-74BC39EE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EE54EF-630E-420E-A579-AB0CE38B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A907E5-CD7F-4B88-817A-EFFFBB21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71AB3E-EB5E-4D0E-AD73-87D56A7A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991FDD-D078-4168-A4E2-1B9DC09A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E87333-ABBA-414A-9A7F-C9F81CAA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4FDF3F-5643-4C28-907C-6E0466A2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233B6D-3FBB-486A-AB95-EB84FC80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A36E-4A92-4BBE-9613-7588CFDB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AE45-70E3-4152-8E40-BC47A3CF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5F6C5-9173-4E0A-B245-12AECA1B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CC40F-1030-482A-9BD7-CDB10652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673F4-C816-47F6-99D0-FAD0C918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F0E88-8836-4876-9982-96ABA281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CA691-0A08-4C57-9206-1725D36F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4F08D-F85C-41E2-866D-E6977F60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012D4-99B6-4571-99F7-57786532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92C-8031-4B15-BE4B-29A931B7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9C87A-85CD-4D66-90DE-C0342A9F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183CC-92F1-4EDA-8E66-66C9B989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35C64-F339-4C63-B703-DC734256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D919F-C0D9-4D0B-86A5-FD3024D0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9E1CC-44B9-4154-B214-4A56BC6F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19A9A-E642-43DD-BF7D-A389C433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C9285-E885-4049-A99E-7A78712C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12C50-46A4-4E68-9699-0A41D1F8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B7197-11AC-4804-9EFE-F3F03C5B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9604C-9F14-42F5-953B-BC7B83E1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ACB-0B61-492B-A869-DC5BB05F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0F9B1-4F0E-463F-A759-FA802EAF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3218A-38B6-4631-95B8-019FBBFD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106E5-0CA1-40DA-8739-C3798EEC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55AEC-D804-4C76-8E79-F232A506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D263D-1C44-4D80-A54D-38F21D59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823F1-C653-488E-9768-3DE7B4FB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18014-D684-42F2-86BC-B6B5A66E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9226AB-65B2-47BA-94CF-EE03D134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C12BB0-68FA-41AD-A0B8-BC2D65D7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9A943E-41BB-4337-8C5A-68CFE958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5CE4-7966-4856-904D-E050EED9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BD4416-B8C8-4B13-A7C9-8C80E515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1EAFD1-08E9-4B48-A089-1BA2BFCC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D59559-76B9-40B6-A0A2-5B4E1856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CB0676-4E38-4114-BC02-9FB24E83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462885-4EF0-4FFE-A97C-9C71CCA9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010694-3FAF-4522-9BD6-749628E8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A4108D-FE6F-4E40-A8FD-24D7035A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DE4EDE-BF47-46D3-97DF-A4B53525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8035CB-62F4-4F55-8B8A-F92290CC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FBC6B-DC7F-4EC5-9BAB-CAF9EC56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D73-CE60-462E-96B2-5FD01762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671C4-291E-4DCE-ABEB-85FD1267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5D0CE-C8B7-4E5F-9EA2-6BBFB50B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4FF69-F5D1-40FA-A5A4-8F8F3745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EE624-5881-4820-BC2A-03D4D08A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C3FC2-01EC-4AA3-AF22-342A109E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B8671-FCBB-4644-9E83-5FD165D6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1C570-F75D-4F51-AD6D-FB3A021A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54D22-FC01-49C6-A53E-BC9CC964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D5091-E325-4948-8764-2D75AB7F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3C2AC-6EA7-4604-9736-AB15938D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C6E0-8ED8-40AB-8656-0F9D03BC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C5599-F5FC-491C-A464-C93511BE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5E17D-6D6C-453D-86EA-5C819314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A8958-C2F9-418E-BC09-4805B659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917C2-2F14-44C4-B180-75BD3C52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2FD45-872B-4B6D-8933-C4BFB29C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0F048-39FE-4697-97E7-B265C569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894A8-E409-4D46-9527-E598EA2E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527CC-EA9D-4E53-8C46-AF5BBFBB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4EABC-55D9-4494-8F1F-E74B1A65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4DD28-2A50-4E66-AEBE-53F89A19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42D-649A-468D-BB6B-084B1D53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E2807-6140-4825-AEFF-6A6CA0B8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BA792-F00C-4FD2-82BC-4EDCC54D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D51B1-DF02-4847-956F-6658774A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FC048-ABD6-4430-9E12-4E1C38CE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B21B5-5508-4B98-8065-EC80905D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50D54-9451-4D46-BDDE-1D7E74B9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F295E-E27D-4000-AFBD-999BA19D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F1172-4B6C-4507-AD14-F5F83954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F3D12-B8D9-457A-8F6B-8D46C351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CA3CF-05EE-4FA1-9313-4E7B7772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12A2-913E-4748-9B2B-C557D767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8E6E8-A64D-49C1-99E6-ECD67E98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62B92-F2B3-46DC-88A1-06CA3137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45354-962F-4CEF-B217-48446624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C1569-B7F6-4446-B24B-FCAC6648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E22CB-7AD2-43A3-9D09-C9A93A44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5D97D1-4E54-4ACD-A310-DEAD3994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6BDCEA-035C-4E51-994B-F8F66C64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E23B71-291F-48F0-AAAE-735E9ADF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9B5CC5-AF3C-4726-9E49-0D1899A4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038A42-FED3-4FE4-A871-4DE0C379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B46-C0EE-4491-819B-218ACF3C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3CC9CC-D4CD-4219-B10D-D46310F0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6547D8-47C8-4981-8AF1-654CB5C7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6C70E3-6030-47AF-8429-CC8EED69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62C67C-0C3D-45E0-B796-A5F68537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E8F8CA-811B-40E8-B480-70D9F08F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297C2C-E8A4-402E-A29C-0B349EA9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D9A881-F848-42E3-9FFA-39B52D8C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2F26D1-F6A3-4B5B-BC41-FAEC46B0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6D6C98-473B-4978-84F6-20777E5E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522AA0-71FC-4E36-8C42-F40E2059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0DF8-E394-4ABD-B938-79FEDEC4A0A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6523-C989-4B61-8CEB-F0631161BDA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45ED-24CD-4A9D-BC93-BABB45441F9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C339-C6E9-4BA4-A2F4-5D0E9C58FE0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E0FB-FAD3-4EF2-A414-1D4EFC3E315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9548-AD74-4DE4-A796-99450AAEEEC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F9B2-2C71-4670-8E8D-DFBE60B16F1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12E1-313F-4EDF-8D1E-B31B6D00D8C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CD11-F551-4A5B-9639-B5F5D05DC01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hyperlink" Target="http://www.youtube.com/watch?v=jt9f-MZX-58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www.youtube.com/watch?v=4Z6xX78PfV8&amp;list=PLCB3CADEDB895EAC5&amp;index=2&amp;noredirect=1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0880" cy="22320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mily Stol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dam Scheurenbran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licia Snyder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71640" indent="-51444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Ultimate free marke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971640" indent="-51444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ore/larger interest groups due to communication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971640" indent="-51444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any uses: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371600" indent="-514440">
              <a:spcBef>
                <a:spcPts val="400"/>
              </a:spcBef>
              <a:buClr>
                <a:srgbClr val="a8cdd7"/>
              </a:buClr>
              <a:buFont typeface="Rockwel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Fund raisings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1371600" indent="-514440">
              <a:spcBef>
                <a:spcPts val="400"/>
              </a:spcBef>
              <a:buClr>
                <a:srgbClr val="a8cdd7"/>
              </a:buClr>
              <a:buFont typeface="Rockwel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Blogs/discussions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1371600" indent="-514440">
              <a:spcBef>
                <a:spcPts val="400"/>
              </a:spcBef>
              <a:buClr>
                <a:srgbClr val="a8cdd7"/>
              </a:buClr>
              <a:buFont typeface="Rockwel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Candidate websites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1371600" indent="-514440">
              <a:spcBef>
                <a:spcPts val="400"/>
              </a:spcBef>
              <a:buClr>
                <a:srgbClr val="a8cdd7"/>
              </a:buClr>
              <a:buFont typeface="Rockwel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1" name="Picture 3" descr="computer.jpg"/>
          <p:cNvPicPr/>
          <p:nvPr/>
        </p:nvPicPr>
        <p:blipFill>
          <a:blip r:embed="rId2"/>
          <a:stretch/>
        </p:blipFill>
        <p:spPr>
          <a:xfrm>
            <a:off x="5029200" y="2743200"/>
            <a:ext cx="3159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arties created and supported newspaper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514440" indent="-5144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irculation was small and newspapers expensiv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514440" indent="-5144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ostly distributed among political elites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3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Rockwell"/>
              </a:rPr>
              <a:t>Gazett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Rockwell"/>
              </a:rPr>
              <a:t>National Intelligencer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8" name="Picture 6" descr="Gazette.jpg"/>
          <p:cNvPicPr/>
          <p:nvPr/>
        </p:nvPicPr>
        <p:blipFill>
          <a:blip r:embed="rId2"/>
          <a:stretch/>
        </p:blipFill>
        <p:spPr>
          <a:xfrm>
            <a:off x="685800" y="2666880"/>
            <a:ext cx="3618000" cy="24386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Intelligencer.jpg"/>
          <p:cNvPicPr/>
          <p:nvPr/>
        </p:nvPicPr>
        <p:blipFill>
          <a:blip r:embed="rId3"/>
          <a:stretch/>
        </p:blipFill>
        <p:spPr>
          <a:xfrm>
            <a:off x="4724280" y="2514600"/>
            <a:ext cx="38322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hange in society and technolog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High-speed rotary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elegraph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ssociated Press – papers brief and subjectiv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Urbaniz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Government Printing Office – ending printing contracts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72a376"/>
              </a:buClr>
              <a:buSzPct val="70000"/>
              <a:buFont typeface="Rockwel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artisanship came from publishers and editor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nsationalism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Publishers could become powerful political influenc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44720" indent="-514440">
              <a:spcBef>
                <a:spcPts val="400"/>
              </a:spcBef>
              <a:buClr>
                <a:srgbClr val="a8cdd7"/>
              </a:buClr>
              <a:buFont typeface="Rockwel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Hearst and the war with Spain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4" name="Picture 3" descr="hearst.jpg"/>
          <p:cNvPicPr/>
          <p:nvPr/>
        </p:nvPicPr>
        <p:blipFill>
          <a:blip r:embed="rId2"/>
          <a:stretch/>
        </p:blipFill>
        <p:spPr>
          <a:xfrm>
            <a:off x="2438280" y="4572000"/>
            <a:ext cx="39387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iddle class hated “yellow journalism” and favored political reform and progressive movement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7" name="Picture 3" descr="Maine.jpg"/>
          <p:cNvPicPr/>
          <p:nvPr/>
        </p:nvPicPr>
        <p:blipFill>
          <a:blip r:embed="rId2"/>
          <a:stretch/>
        </p:blipFill>
        <p:spPr>
          <a:xfrm>
            <a:off x="5486400" y="2895480"/>
            <a:ext cx="266688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dividual writers gain national follow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514440" indent="-5144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mpeting newspapers and sensationalism declin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514440" indent="-5144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day politics is no longer main focu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adios and televis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llows direct communication, not filtered, but easily ignored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514440" indent="-5144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ew could be broadcaste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ostly the President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nd those criticizing the Presid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2" name="Picture 3" descr="radio-show-1.jpg"/>
          <p:cNvPicPr/>
          <p:nvPr/>
        </p:nvPicPr>
        <p:blipFill>
          <a:blip r:embed="rId2"/>
          <a:stretch/>
        </p:blipFill>
        <p:spPr>
          <a:xfrm>
            <a:off x="990720" y="4495680"/>
            <a:ext cx="2514600" cy="2030400"/>
          </a:xfrm>
          <a:prstGeom prst="rect">
            <a:avLst/>
          </a:prstGeom>
          <a:ln w="0">
            <a:noFill/>
          </a:ln>
        </p:spPr>
      </p:pic>
      <p:sp>
        <p:nvSpPr>
          <p:cNvPr id="423" name="TextBox 5"/>
          <p:cNvSpPr/>
          <p:nvPr/>
        </p:nvSpPr>
        <p:spPr>
          <a:xfrm>
            <a:off x="4724280" y="4876920"/>
            <a:ext cx="3505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b5353"/>
                </a:solidFill>
                <a:uFillTx/>
                <a:latin typeface="Rockwell"/>
                <a:hlinkClick r:id="rId3"/>
              </a:rPr>
              <a:t>http://www.youtube.com/watch?v=jt9f-MZX-58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ise of talk shows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ig Three Network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44720" indent="-514440">
              <a:spcBef>
                <a:spcPts val="400"/>
              </a:spcBef>
              <a:buClr>
                <a:srgbClr val="a8cdd7"/>
              </a:buClr>
              <a:buFont typeface="Rockwel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ABC, CBS, and NBC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ound bite – a radio or video clip of someone speaking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rnold Schwarzenegger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861840" indent="-514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6" name="Picture 3" descr="arnold.jpg"/>
          <p:cNvPicPr/>
          <p:nvPr/>
        </p:nvPicPr>
        <p:blipFill>
          <a:blip r:embed="rId2"/>
          <a:stretch/>
        </p:blipFill>
        <p:spPr>
          <a:xfrm>
            <a:off x="5486400" y="3505320"/>
            <a:ext cx="2438280" cy="30556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NBC.jpg"/>
          <p:cNvPicPr/>
          <p:nvPr/>
        </p:nvPicPr>
        <p:blipFill>
          <a:blip r:embed="rId3"/>
          <a:stretch/>
        </p:blipFill>
        <p:spPr>
          <a:xfrm>
            <a:off x="5715000" y="1600200"/>
            <a:ext cx="2133720" cy="142416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5"/>
          <p:cNvSpPr/>
          <p:nvPr/>
        </p:nvSpPr>
        <p:spPr>
          <a:xfrm>
            <a:off x="990720" y="4495680"/>
            <a:ext cx="396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b5353"/>
                </a:solidFill>
                <a:uFillTx/>
                <a:latin typeface="Rockwell"/>
                <a:hlinkClick r:id="rId4"/>
              </a:rPr>
              <a:t>http://www.youtube.com/watch?v=4Z6xX78PfV8&amp;list=PLCB3CADEDB895EAC5&amp;index=2&amp;noredirect=1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8:51:25Z</dcterms:created>
  <dc:creator>snyder105283</dc:creator>
  <dc:description/>
  <dc:language>en-US</dc:language>
  <cp:lastModifiedBy>lullmannj</cp:lastModifiedBy>
  <dcterms:modified xsi:type="dcterms:W3CDTF">2013-03-27T12:41:30Z</dcterms:modified>
  <cp:revision>44</cp:revision>
  <dc:subject/>
  <dc:title>Journalism in American Political History</dc:title>
</cp:coreProperties>
</file>